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F94-5DFF-4159-8519-A7FE584B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171-3837-4989-91BC-C2F655A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6E9-2227-4EB5-8A78-F2C01FF9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C0F-5920-4D80-8F95-13437202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D90-5D04-4813-B2B0-8F99BAD4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7C6-3C96-4AD0-8F11-E1F3E70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1DB-FA0F-4AF3-B97C-20E2E8E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129-5D54-4444-95AB-82B6ED50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8C5-9DDC-42DB-A61E-44A7913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4692-0475-4A55-BD7E-23C059B7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B8B-C5E6-4569-8E65-96BB9443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F77-1963-40F3-A97B-2EA418DD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090-FD99-42BE-BC0C-BFA42CC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1212-0D79-400D-B5C5-F85EB2C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ED74-188D-4870-A630-C106D50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78E-1F8C-44CC-A274-72AA9FAE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4F0-AF15-4648-AD7D-54B86A6D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5C2-DC3F-4D2A-A1F8-A520D00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3B-D61F-4026-873F-55EAE88B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6AA-AC56-40CD-A61A-FF4C21AF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2D3-2A40-4DF3-9624-FF33C37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5C2-FAC6-4BF0-B4D5-B3F9CF4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E87-07BF-45E0-AD92-66D5A68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5A9-048C-4282-BC6A-B9650B0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AE5-083D-4C48-AAE3-F43447D7A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7962840" y="155520"/>
            <a:ext cx="0" cy="1521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164-A64E-497D-AD74-ACFCA06E7F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160" y="1061640"/>
            <a:ext cx="69516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Quality for Long-Term Dataset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57120" y="2905200"/>
            <a:ext cx="53229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.Habermann@noa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3760" y="2811600"/>
            <a:ext cx="822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1073160"/>
            <a:ext cx="0" cy="445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4800" y="905040"/>
            <a:ext cx="4105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NESDIS Metadata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5200" y="1974960"/>
            <a:ext cx="2582640" cy="253980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56320" y="1974960"/>
            <a:ext cx="3552480" cy="2187360"/>
          </a:xfrm>
          <a:prstGeom prst="ellipse">
            <a:avLst/>
          </a:prstGeom>
          <a:solidFill>
            <a:srgbClr val="cccc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14880" y="4657680"/>
            <a:ext cx="1849320" cy="98100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BII &amp;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1600" y="3905280"/>
            <a:ext cx="1703160" cy="1427040"/>
          </a:xfrm>
          <a:prstGeom prst="ellipse">
            <a:avLst/>
          </a:prstGeom>
          <a:solidFill>
            <a:srgbClr val="800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46360" y="2666880"/>
            <a:ext cx="3521160" cy="2874960"/>
            <a:chOff x="2646360" y="2666880"/>
            <a:chExt cx="3521160" cy="2874960"/>
          </a:xfrm>
        </p:grpSpPr>
        <p:sp>
          <p:nvSpPr>
            <p:cNvPr id="160" name=""/>
            <p:cNvSpPr/>
            <p:nvPr/>
          </p:nvSpPr>
          <p:spPr>
            <a:xfrm>
              <a:off x="2646360" y="2666880"/>
              <a:ext cx="3521160" cy="2874960"/>
            </a:xfrm>
            <a:prstGeom prst="ellipse">
              <a:avLst/>
            </a:prstGeom>
            <a:solidFill>
              <a:srgbClr val="80008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93680" y="4398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78000" y="2933640"/>
            <a:ext cx="2028960" cy="113976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73200" y="2560680"/>
            <a:ext cx="4955760" cy="2987640"/>
            <a:chOff x="2473200" y="2560680"/>
            <a:chExt cx="4955760" cy="2987640"/>
          </a:xfrm>
        </p:grpSpPr>
        <p:sp>
          <p:nvSpPr>
            <p:cNvPr id="164" name=""/>
            <p:cNvSpPr/>
            <p:nvPr/>
          </p:nvSpPr>
          <p:spPr>
            <a:xfrm>
              <a:off x="2473200" y="2560680"/>
              <a:ext cx="4683240" cy="2987640"/>
            </a:xfrm>
            <a:prstGeom prst="ellipse">
              <a:avLst/>
            </a:prstGeom>
            <a:solidFill>
              <a:srgbClr val="0066ff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21600" y="430848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 191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800" y="905040"/>
            <a:ext cx="4105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NESDIS Metadata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4360" y="3570120"/>
            <a:ext cx="1623960" cy="140976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02280" y="2355840"/>
            <a:ext cx="1781280" cy="1589040"/>
          </a:xfrm>
          <a:prstGeom prst="ellipse">
            <a:avLst/>
          </a:prstGeom>
          <a:solidFill>
            <a:srgbClr val="cccc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200" y="2355840"/>
            <a:ext cx="1849320" cy="98100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BII &amp;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24560" y="2136600"/>
            <a:ext cx="1703160" cy="1427400"/>
          </a:xfrm>
          <a:prstGeom prst="ellipse">
            <a:avLst/>
          </a:prstGeom>
          <a:solidFill>
            <a:srgbClr val="800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473280"/>
            <a:ext cx="1373040" cy="132084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4780080"/>
            <a:ext cx="8226360" cy="920520"/>
            <a:chOff x="457200" y="4780080"/>
            <a:chExt cx="8226360" cy="920520"/>
          </a:xfrm>
        </p:grpSpPr>
        <p:sp>
          <p:nvSpPr>
            <p:cNvPr id="173" name=""/>
            <p:cNvSpPr/>
            <p:nvPr/>
          </p:nvSpPr>
          <p:spPr>
            <a:xfrm>
              <a:off x="457200" y="4780080"/>
              <a:ext cx="8226360" cy="920520"/>
            </a:xfrm>
            <a:prstGeom prst="ellipse">
              <a:avLst/>
            </a:prstGeom>
            <a:solidFill>
              <a:srgbClr val="0066ff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8400" y="500364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SO 191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684520" y="2948040"/>
            <a:ext cx="3531600" cy="1689120"/>
            <a:chOff x="2684520" y="2948040"/>
            <a:chExt cx="3531600" cy="1689120"/>
          </a:xfrm>
        </p:grpSpPr>
        <p:sp>
          <p:nvSpPr>
            <p:cNvPr id="176" name=""/>
            <p:cNvSpPr/>
            <p:nvPr/>
          </p:nvSpPr>
          <p:spPr>
            <a:xfrm>
              <a:off x="2684520" y="2948040"/>
              <a:ext cx="3531600" cy="1689120"/>
            </a:xfrm>
            <a:prstGeom prst="ellipse">
              <a:avLst/>
            </a:prstGeom>
            <a:solidFill>
              <a:srgbClr val="80008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71040" y="3441960"/>
              <a:ext cx="215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m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n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57200" y="5616720"/>
            <a:ext cx="8226360" cy="439560"/>
          </a:xfrm>
          <a:prstGeom prst="leftRightArrow">
            <a:avLst>
              <a:gd name="adj1" fmla="val 35019"/>
              <a:gd name="adj2" fmla="val 183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280" y="602136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93880" y="60228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ISO Quality Scope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720" y="865080"/>
            <a:ext cx="754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600" y="183672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Q_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level: MD_Scop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extent [0..1] : EX_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levelDescription [0..*] : MD_Scop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1836720"/>
            <a:ext cx="272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D_Scop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attribut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collection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collection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nonGeographic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dimension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eatur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property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ield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3195720"/>
            <a:ext cx="499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D_Scop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attributes : Set&lt;GF_Attribut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features : Set&lt;GF_Featur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featureInstances : Set&lt;GF_Featur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attributeInstances : Set&lt;GF_Attribut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dataset : Character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other : Character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2960" y="5330880"/>
            <a:ext cx="53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_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bes the spatial and temporal extent of the quality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440" y="2443320"/>
            <a:ext cx="24145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" y="2706840"/>
            <a:ext cx="2617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440" y="2994120"/>
            <a:ext cx="482436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8040" y="1057320"/>
            <a:ext cx="84456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OAIS Principles: Ingest Functions</a:t>
            </a:r>
            <a:endParaRPr b="0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14680" y="4854600"/>
            <a:ext cx="163188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30440" y="2817720"/>
            <a:ext cx="213336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5120" y="1635120"/>
            <a:ext cx="1108080" cy="2522520"/>
          </a:xfrm>
          <a:custGeom>
            <a:avLst/>
            <a:gdLst>
              <a:gd name="textAreaLeft" fmla="*/ 54000 w 1108080"/>
              <a:gd name="textAreaRight" fmla="*/ 1054080 w 1108080"/>
              <a:gd name="textAreaTop" fmla="*/ 54000 h 2522520"/>
              <a:gd name="textAreaBottom" fmla="*/ 2468520 h 2522520"/>
            </a:gdLst>
            <a:ahLst/>
            <a:rect l="textAreaLeft" t="textAreaTop" r="textAreaRight" b="textAreaBottom"/>
            <a:pathLst>
              <a:path w="21600" h="49163">
                <a:moveTo>
                  <a:pt x="3600" y="0"/>
                </a:moveTo>
                <a:arcTo wR="3600" hR="3600" stAng="16200000" swAng="-5400000"/>
                <a:lnTo>
                  <a:pt x="0" y="45563"/>
                </a:lnTo>
                <a:arcTo wR="3600" hR="3600" stAng="10800000" swAng="-5400000"/>
                <a:lnTo>
                  <a:pt x="18000" y="49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30920" y="1832040"/>
            <a:ext cx="1758960" cy="106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64160" y="4902120"/>
            <a:ext cx="237312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-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469880"/>
            <a:ext cx="363600" cy="4030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92360" y="6232680"/>
            <a:ext cx="2155680" cy="5871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2" idx="1"/>
          </p:cNvCxnSpPr>
          <p:nvPr/>
        </p:nvCxnSpPr>
        <p:spPr>
          <a:xfrm rot="10800000">
            <a:off x="1629720" y="3198240"/>
            <a:ext cx="962640" cy="3327840"/>
          </a:xfrm>
          <a:prstGeom prst="bentConnector3">
            <a:avLst>
              <a:gd name="adj1" fmla="val 182641"/>
            </a:avLst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1093680" y="3187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1840" y="567072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ceipt confi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bmi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1" idx="1"/>
          </p:cNvCxnSpPr>
          <p:nvPr/>
        </p:nvCxnSpPr>
        <p:spPr>
          <a:xfrm rot="10800000">
            <a:off x="2056680" y="3531600"/>
            <a:ext cx="558000" cy="1703880"/>
          </a:xfrm>
          <a:prstGeom prst="bentConnector2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2104920" y="49514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1240" y="3635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A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3480" y="2259000"/>
            <a:ext cx="3595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7200" y="19731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 Formatting and Doc St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280" y="1935000"/>
            <a:ext cx="35956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4480" y="1641600"/>
            <a:ext cx="157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, AIP for 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16416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udi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2040" y="3203640"/>
            <a:ext cx="2381040" cy="799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52920" y="6234120"/>
            <a:ext cx="3038760" cy="585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46520" y="3195720"/>
            <a:ext cx="501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46160" y="29289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0"/>
            <a:endCxn id="193" idx="0"/>
          </p:cNvCxnSpPr>
          <p:nvPr/>
        </p:nvCxnSpPr>
        <p:spPr>
          <a:xfrm flipV="1" rot="16200000">
            <a:off x="5465880" y="966960"/>
            <a:ext cx="1569240" cy="2904120"/>
          </a:xfrm>
          <a:prstGeom prst="bentConnector3">
            <a:avLst>
              <a:gd name="adj1" fmla="val 114570"/>
            </a:avLst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14" name=""/>
          <p:cNvSpPr/>
          <p:nvPr/>
        </p:nvSpPr>
        <p:spPr>
          <a:xfrm>
            <a:off x="5337000" y="2575080"/>
            <a:ext cx="501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41680" y="2308320"/>
            <a:ext cx="468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6760" y="2890800"/>
            <a:ext cx="0" cy="198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42640" y="40971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15600" y="428940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05360" y="4165560"/>
            <a:ext cx="3240" cy="736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87760" y="45277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599160" y="4002120"/>
            <a:ext cx="0" cy="92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09" idx="2"/>
            <a:endCxn id="195" idx="3"/>
          </p:cNvCxnSpPr>
          <p:nvPr/>
        </p:nvCxnSpPr>
        <p:spPr>
          <a:xfrm rot="5400000">
            <a:off x="6729840" y="4310640"/>
            <a:ext cx="1280520" cy="665640"/>
          </a:xfrm>
          <a:prstGeom prst="bentConnector2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"/>
          <p:cNvSpPr/>
          <p:nvPr/>
        </p:nvSpPr>
        <p:spPr>
          <a:xfrm>
            <a:off x="7649640" y="464976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2600" y="255888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2800" y="14414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43520" y="5657760"/>
            <a:ext cx="7920" cy="558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6920" y="5896080"/>
            <a:ext cx="21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torage Request, 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0000" y="5654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torage 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9720" y="3022560"/>
            <a:ext cx="976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0560" y="255744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Upd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2600" y="4862520"/>
            <a:ext cx="163188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38360" y="282564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Granule Metadata - Present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0120" y="1501920"/>
            <a:ext cx="7145280" cy="49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15920" y="1612800"/>
            <a:ext cx="6939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Rich Inventory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70120" y="1501920"/>
            <a:ext cx="7145280" cy="4943160"/>
            <a:chOff x="870120" y="1501920"/>
            <a:chExt cx="7145280" cy="4943160"/>
          </a:xfrm>
        </p:grpSpPr>
        <p:sp>
          <p:nvSpPr>
            <p:cNvPr id="238" name=""/>
            <p:cNvSpPr/>
            <p:nvPr/>
          </p:nvSpPr>
          <p:spPr>
            <a:xfrm>
              <a:off x="870120" y="1501920"/>
              <a:ext cx="7145280" cy="49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023840" y="1614600"/>
              <a:ext cx="6819840" cy="473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000" y="1023840"/>
            <a:ext cx="74725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Aerosol Algorithm Change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12680" y="1579680"/>
            <a:ext cx="70851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6520" y="1049400"/>
            <a:ext cx="41022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Metadata</a:t>
            </a:r>
            <a:endParaRPr b="0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280" y="1486080"/>
            <a:ext cx="8339040" cy="4779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i T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d some digging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and this is the result.   This conclusion is the most pertinent info we could find from logs or email archives.  Here it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checked my 2002 email archives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and here is what i found out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it appears that the current 3rd generation aerosol algorithm was implemented into operations around Oct-Nov 2002 time frame. cannot say more precisely, a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email correspondence i am looking at, talks about this indirectly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. (maybe it's what Steve refers to as the Phase II aerosol-SST algorithm.) At the same time, Steve had implemented quite a few other changes fixing data bugs and formats: view angle problem in AEROBS, increased digitization in all channel's reflectances and AODs, etc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The jump in AOD1 is deemed due to introducing 3rd generation algorithm, which replaced the 2nd generation. The new numbers (~0.08) look more realistic than the previous ones (~0.05 or so)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changes seen in the data is close to the expected effect of this chang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. the 3rd gen alg takes into account the exact spectral response of N16 AVHRR, whereas the 2nd gen was using a generic set of LUTs for all AVHRRs ("one size fits all"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pefully this settles the issue..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53:13Z</dcterms:created>
  <dc:creator>Ted Habermann</dc:creator>
  <dc:description/>
  <dc:language>en-US</dc:language>
  <cp:lastModifiedBy>Ted Habermann</cp:lastModifiedBy>
  <dcterms:modified xsi:type="dcterms:W3CDTF">2009-01-05T20:58:11Z</dcterms:modified>
  <cp:revision>240</cp:revision>
  <dc:subject/>
  <dc:title>Data Quality and ISO Meta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ISODataQualityA</vt:lpwstr>
  </property>
</Properties>
</file>